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png" ContentType="image/png"/>
  <Override PartName="/ppt/media/image28.wmf" ContentType="image/x-wmf"/>
  <Override PartName="/ppt/media/image30.wmf" ContentType="image/x-wmf"/>
  <Override PartName="/ppt/media/image10.png" ContentType="image/png"/>
  <Override PartName="/ppt/media/image6.png" ContentType="image/png"/>
  <Override PartName="/ppt/media/image11.png" ContentType="image/png"/>
  <Override PartName="/ppt/media/image31.wmf" ContentType="image/x-wmf"/>
  <Override PartName="/ppt/media/image7.png" ContentType="image/png"/>
  <Override PartName="/ppt/media/image12.png" ContentType="image/png"/>
  <Override PartName="/ppt/media/image32.wmf" ContentType="image/x-wmf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22.wmf" ContentType="image/x-wmf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CC599ACD-64DD-4838-8DE2-74E874D32A50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C166EE49-2777-4277-82EC-521075DE6377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C843-FD79-424E-AB9D-E854FA77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185-38F3-42E1-9A06-E1FA756E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B26F-3F00-498D-8802-34DDA896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9363-4C45-428A-A187-6D198D00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3B2C-8CD7-4EFC-8340-4FB0BA98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8026-253B-404A-87D1-11A979A3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E1A1-0D49-4FCC-A0DC-B1FE03D0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67D8-6529-46D4-9A25-0A8EEB7F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3ED5-6192-4FA1-9130-8C1E1F22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9B8E-5D10-40B7-A508-581B3AE9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23E8-3B67-40B6-A09B-5EBCC1A9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9A91-DE3F-4040-B9E3-014C3A97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625F-DECA-4E5E-835C-9E11EE45B88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oleta Seletiv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468360" y="1771560"/>
            <a:ext cx="8136000" cy="3431520"/>
          </a:xfrm>
          <a:prstGeom prst="rect">
            <a:avLst/>
          </a:prstGeom>
          <a:solidFill>
            <a:srgbClr val="d5d5d5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Vários segmentos de uma comunidade podem participar do programa de coleta sele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ada um fazendo uma parte e se beneficiando dos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xemplo disso é a parceria entre as unidades produtoras de lixo e gestoras da coleta seletiva (condomínios, escolas, empresas, etc.) e as cooperativas ou associações que receberão os materiais selecionados e que muitas vezes podem se encarregar da retirada dos me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4" descr=""/>
          <p:cNvPicPr/>
          <p:nvPr/>
        </p:nvPicPr>
        <p:blipFill>
          <a:blip r:embed="rId1"/>
          <a:stretch/>
        </p:blipFill>
        <p:spPr>
          <a:xfrm>
            <a:off x="968400" y="836640"/>
            <a:ext cx="7203960" cy="1230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"/>
          <p:cNvPicPr/>
          <p:nvPr/>
        </p:nvPicPr>
        <p:blipFill>
          <a:blip r:embed="rId2"/>
          <a:stretch/>
        </p:blipFill>
        <p:spPr>
          <a:xfrm>
            <a:off x="1692360" y="2276640"/>
            <a:ext cx="568944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751880" cy="1065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"/>
          <p:cNvPicPr/>
          <p:nvPr/>
        </p:nvPicPr>
        <p:blipFill>
          <a:blip r:embed="rId2"/>
          <a:stretch/>
        </p:blipFill>
        <p:spPr>
          <a:xfrm>
            <a:off x="1187280" y="2276640"/>
            <a:ext cx="699300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415280" cy="379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"/>
          <p:cNvPicPr/>
          <p:nvPr/>
        </p:nvPicPr>
        <p:blipFill>
          <a:blip r:embed="rId2"/>
          <a:stretch/>
        </p:blipFill>
        <p:spPr>
          <a:xfrm>
            <a:off x="179280" y="1855800"/>
            <a:ext cx="8785440" cy="2130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"/>
          <p:cNvPicPr/>
          <p:nvPr/>
        </p:nvPicPr>
        <p:blipFill>
          <a:blip r:embed="rId3"/>
          <a:stretch/>
        </p:blipFill>
        <p:spPr>
          <a:xfrm>
            <a:off x="179280" y="4567320"/>
            <a:ext cx="87854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415280" cy="379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"/>
          <p:cNvPicPr/>
          <p:nvPr/>
        </p:nvPicPr>
        <p:blipFill>
          <a:blip r:embed="rId2"/>
          <a:stretch/>
        </p:blipFill>
        <p:spPr>
          <a:xfrm>
            <a:off x="466560" y="1628640"/>
            <a:ext cx="8209080" cy="1793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"/>
          <p:cNvPicPr/>
          <p:nvPr/>
        </p:nvPicPr>
        <p:blipFill>
          <a:blip r:embed="rId3"/>
          <a:stretch/>
        </p:blipFill>
        <p:spPr>
          <a:xfrm>
            <a:off x="466560" y="3573360"/>
            <a:ext cx="82090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415280" cy="379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"/>
          <p:cNvPicPr/>
          <p:nvPr/>
        </p:nvPicPr>
        <p:blipFill>
          <a:blip r:embed="rId2"/>
          <a:stretch/>
        </p:blipFill>
        <p:spPr>
          <a:xfrm>
            <a:off x="179280" y="2554200"/>
            <a:ext cx="871380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907400" cy="438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"/>
          <p:cNvPicPr/>
          <p:nvPr/>
        </p:nvPicPr>
        <p:blipFill>
          <a:blip r:embed="rId2"/>
          <a:stretch/>
        </p:blipFill>
        <p:spPr>
          <a:xfrm>
            <a:off x="252360" y="1957320"/>
            <a:ext cx="8640720" cy="2408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"/>
          <p:cNvPicPr/>
          <p:nvPr/>
        </p:nvPicPr>
        <p:blipFill>
          <a:blip r:embed="rId3"/>
          <a:stretch/>
        </p:blipFill>
        <p:spPr>
          <a:xfrm>
            <a:off x="252360" y="5002200"/>
            <a:ext cx="86407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3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6373800" cy="379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"/>
          <p:cNvPicPr/>
          <p:nvPr/>
        </p:nvPicPr>
        <p:blipFill>
          <a:blip r:embed="rId2"/>
          <a:stretch/>
        </p:blipFill>
        <p:spPr>
          <a:xfrm>
            <a:off x="179280" y="2066760"/>
            <a:ext cx="878544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5256360" cy="4557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3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7805880" cy="135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"/>
          <p:cNvPicPr/>
          <p:nvPr/>
        </p:nvPicPr>
        <p:blipFill>
          <a:blip r:embed="rId3"/>
          <a:stretch/>
        </p:blipFill>
        <p:spPr>
          <a:xfrm>
            <a:off x="179280" y="2060640"/>
            <a:ext cx="87138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1484280"/>
            <a:ext cx="8569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icialmente é necessário a conscientização de todos para a busca de soluções para o grave problema. Isto é possível através de palestras, manual de Coleta Seletiva e cartazes demonstrando as vantagens da reciclagem, da preservação dos recursos naturais e a não poluição do meio ambi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 próxima fase, é necessário sinalizar e disponibilizar coletores específicos para cada tipo de material em lugar comum a todos e de fácil acesso. Hoje, além dos coletores é possível disponibilizar sacos de lixos nas cores padrões de cada mater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 última fase é necessário ter um sistema pré-determinado para o recolhimento dos materiais selecionados e que deverão ser encaminhados para as usinas de reciclag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implantar a coleta sele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5"/>
          <a:stretch/>
        </p:blipFill>
        <p:spPr>
          <a:xfrm>
            <a:off x="7524720" y="0"/>
            <a:ext cx="1619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50920" y="1825560"/>
            <a:ext cx="8569080" cy="45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stem algumas formas de coletas de materiais recicláve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rimeiro exemplo é o sistema de porta a porta onde os caminhões do serviço de limpeza passam recolhendo os materiais separados, como na coleta de lixo comum, mas em dias específ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egundo exemplo é através da entrega voluntária (PEV) em postos de coleta distribuídos pela cidade nas escolas, praças, supermercados, etc., onde a população entrega os materiais separados nos respectivos cole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oje existem, também, empresas especializadas que retiram os materiais selecionados e encaminham para as usinas de reciclagens mediante contratos ou solicitações. Este método é mais adequado às empresas onde o volume de material é ma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e coleta de sele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"/>
          <p:cNvPicPr/>
          <p:nvPr/>
        </p:nvPicPr>
        <p:blipFill>
          <a:blip r:embed="rId6"/>
          <a:stretch/>
        </p:blipFill>
        <p:spPr>
          <a:xfrm>
            <a:off x="5867280" y="0"/>
            <a:ext cx="327672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50920" y="1484280"/>
            <a:ext cx="856908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SEPARAÇÃO DO LIXO RECICLÁVEL DO NÃO RECICLÁ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o cotidiano de nossas cidades, são produzidas milhares de toneladas de lixo. Há muito tempo este resíduo é um dos grandes problemas que o poder público e a sociedade tem enfrentado, buscando soluções que nem sempre atendem as necessidades. Razão disso a degradação do meio ambiente, tais como as contaminações de nossos rios, a poluição do ar, ruas sujas, proliferação de insetos, ratos, etc, causando doenç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solução mais eficiente é a separação dos materiais recicláveis para o reaproveitamento, transformando o problema do lixo em solução econômica e social. Para que isto seja possível é preciso que todos participem colaborando com o programa de Coleta Seletiv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imeiro pa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5"/>
          <a:stretch/>
        </p:blipFill>
        <p:spPr>
          <a:xfrm>
            <a:off x="6732720" y="0"/>
            <a:ext cx="241128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250920" y="1484280"/>
            <a:ext cx="856908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75 latas de aço, recicladas, preserva-se uma árvore que seria usada como carv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cada tonelada de papel reciclado, evita-se a derrubada de 16 a 30 árvores adulta, em méd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ada 100 toneladas de plástico reciclado, evita-se a extração de 1 tonelada de petróleo e a economia em torno de 90% de energ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10% de vidro reciclado, economiza-se 4% de energia e reduz 10% no consumo de ág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vantagens da reciclagem são muitas mas acima de tudo, ela melhora a qualidade de vida, minimiza os efeitos da poluição no planeta, gera empregos e rendas, além de valorizar as empresas ambientalmente corret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enefícios da coleta sele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6" descr=""/>
          <p:cNvPicPr/>
          <p:nvPr/>
        </p:nvPicPr>
        <p:blipFill>
          <a:blip r:embed="rId7"/>
          <a:stretch/>
        </p:blipFill>
        <p:spPr>
          <a:xfrm>
            <a:off x="6588000" y="0"/>
            <a:ext cx="255600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50920" y="1484280"/>
            <a:ext cx="856908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principais materiais recicláveis são papeis, plásticos, vidro e met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odos deverão ser separados e colocados em coletores ou sacos plásticos de preferência na cor padrão de cada material conforme resolução do CONAMA (Conselho Nacional do Meio Ambient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eriais recicl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3" descr=""/>
          <p:cNvPicPr/>
          <p:nvPr/>
        </p:nvPicPr>
        <p:blipFill>
          <a:blip r:embed="rId4"/>
          <a:stretch/>
        </p:blipFill>
        <p:spPr>
          <a:xfrm>
            <a:off x="1476360" y="4292640"/>
            <a:ext cx="604836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50920" y="1484280"/>
            <a:ext cx="8569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ixo Orgânico ou Úmido - São restos de comidas, cascas de frutas e legume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jeitos - Lenços e guardanapos de papel, absorvente e papel higiênico, fraldas, papéis sujos, espelhos, cerâmicas, porcelan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síduos Especiais - Pilhas e bateri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síduos Hospitalar - Curativos, gazes, algodão, sering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ixo Químico ou Tóxico - Embalagens de agrotóx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eriais não recicl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7"/>
          <a:stretch/>
        </p:blipFill>
        <p:spPr>
          <a:xfrm>
            <a:off x="1476360" y="4948200"/>
            <a:ext cx="604836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3" descr=""/>
          <p:cNvPicPr/>
          <p:nvPr/>
        </p:nvPicPr>
        <p:blipFill>
          <a:blip r:embed="rId1"/>
          <a:stretch/>
        </p:blipFill>
        <p:spPr>
          <a:xfrm>
            <a:off x="1979640" y="836640"/>
            <a:ext cx="4968720" cy="534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7634160" cy="2052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6" name="Picture 15" descr=""/>
          <p:cNvPicPr/>
          <p:nvPr/>
        </p:nvPicPr>
        <p:blipFill>
          <a:blip r:embed="rId3"/>
          <a:stretch/>
        </p:blipFill>
        <p:spPr>
          <a:xfrm>
            <a:off x="2556000" y="3789360"/>
            <a:ext cx="4105080" cy="43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"/>
          <p:cNvPicPr/>
          <p:nvPr/>
        </p:nvPicPr>
        <p:blipFill>
          <a:blip r:embed="rId4"/>
          <a:stretch/>
        </p:blipFill>
        <p:spPr>
          <a:xfrm>
            <a:off x="684360" y="4365720"/>
            <a:ext cx="7632720" cy="22701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"/>
          <p:cNvPicPr/>
          <p:nvPr/>
        </p:nvPicPr>
        <p:blipFill>
          <a:blip r:embed="rId1"/>
          <a:stretch/>
        </p:blipFill>
        <p:spPr>
          <a:xfrm>
            <a:off x="2627280" y="981000"/>
            <a:ext cx="3889440" cy="511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7632720" cy="2251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16" name="Picture 16" descr=""/>
          <p:cNvPicPr/>
          <p:nvPr/>
        </p:nvPicPr>
        <p:blipFill>
          <a:blip r:embed="rId3"/>
          <a:stretch/>
        </p:blipFill>
        <p:spPr>
          <a:xfrm>
            <a:off x="2770200" y="3860640"/>
            <a:ext cx="3673440" cy="606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"/>
          <p:cNvPicPr/>
          <p:nvPr/>
        </p:nvPicPr>
        <p:blipFill>
          <a:blip r:embed="rId4"/>
          <a:stretch/>
        </p:blipFill>
        <p:spPr>
          <a:xfrm>
            <a:off x="755640" y="4568760"/>
            <a:ext cx="7632720" cy="210024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52:06Z</dcterms:modified>
  <cp:revision>277</cp:revision>
  <dc:subject/>
  <dc:title>Slide 1</dc:title>
</cp:coreProperties>
</file>